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864-A0E8-43DC-BE9A-90480EB2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0C9E-109D-4381-B1F8-55CAD8B7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4BA-3C9C-43DB-B869-EF1427E3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A6E-B006-4E63-9B43-2B385BDE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30D6-4373-4F7F-90DF-794D7F89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A08D-647E-43F3-BD03-A8409A95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5483-527C-4FB5-B924-7E4570A0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74F9-DD57-42B0-A2C6-327F7E9D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D6FA-1145-4E7E-BA8D-679D2C72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FB9A-F426-4D46-B9D1-E516765F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43DE-37D7-4B26-8593-80D4C13C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9D0E-D861-4F08-9E02-9F7C08AA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1CBF-F650-424C-BFF9-9FEDF8D0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16C2-EDF7-4462-9F17-B2A20787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7613-B2D3-4102-80C4-D3C7B0A0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4F6F-06FA-40F9-97B3-48FCD318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5BEA-F6B6-498D-AA3E-4297E559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8F5-12CE-4A2B-90F7-31554FB3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8CA0-9AC5-4C00-8E79-4CF9861C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163-3F09-4967-888B-6CFA30A3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B0A-EBD6-4DDC-9B6A-ACB3DDC3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4342-8999-41BF-8CE8-36F8F22F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AC09-5C71-4893-9B57-33357F9A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131-F95F-464F-9093-7BD10DD9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2BA7D-810D-44DD-AFC6-B143FBBEB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A3CA06E5-14BE-4B39-A9B1-E4447E06F5E2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4688" t="33337" r="10155" b="18753"/>
          <a:stretch/>
        </p:blipFill>
        <p:spPr>
          <a:xfrm>
            <a:off x="239760" y="274680"/>
            <a:ext cx="9383760" cy="3960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96960" y="4998960"/>
            <a:ext cx="8763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mbria"/>
              </a:rPr>
              <a:t>BOEING 787 DREAMLI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9960" t="23685" r="52921" b="36087"/>
          <a:stretch/>
        </p:blipFill>
        <p:spPr>
          <a:xfrm>
            <a:off x="0" y="3240"/>
            <a:ext cx="10080720" cy="6215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43000" y="6629400"/>
            <a:ext cx="845820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eat with Milk – Fly Oreo Airlines  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9960" t="20315" r="51406" b="33843"/>
          <a:stretch/>
        </p:blipFill>
        <p:spPr>
          <a:xfrm>
            <a:off x="0" y="0"/>
            <a:ext cx="10080720" cy="5913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" y="6172200"/>
            <a:ext cx="9372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y Stars and Stripes Airline – The True American Air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4646" t="20005" r="59072" b="28712"/>
          <a:stretch/>
        </p:blipFill>
        <p:spPr>
          <a:xfrm>
            <a:off x="0" y="20520"/>
            <a:ext cx="10080720" cy="6121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71600" y="6389640"/>
            <a:ext cx="8001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ka Dot Airline – We have a spot for you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7686" t="23851" r="52164" b="29997"/>
          <a:stretch/>
        </p:blipFill>
        <p:spPr>
          <a:xfrm>
            <a:off x="0" y="-55440"/>
            <a:ext cx="10080720" cy="5803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00200" y="6400800"/>
            <a:ext cx="6629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Deserve a Break To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7188" t="27086" r="3127" b="20835"/>
          <a:stretch/>
        </p:blipFill>
        <p:spPr>
          <a:xfrm>
            <a:off x="0" y="0"/>
            <a:ext cx="9828360" cy="6299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108240" y="6635880"/>
            <a:ext cx="428472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Flying Zebr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7686" t="20806" r="51406" b="36530"/>
          <a:stretch/>
        </p:blipFill>
        <p:spPr>
          <a:xfrm>
            <a:off x="0" y="0"/>
            <a:ext cx="10080720" cy="614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trick Mooney</dc:creator>
  <dc:description/>
  <dc:language>en-US</dc:language>
  <cp:lastModifiedBy>Patrick J. Mooney</cp:lastModifiedBy>
  <dcterms:modified xsi:type="dcterms:W3CDTF">2012-03-13T13:46:02Z</dcterms:modified>
  <cp:revision>2</cp:revision>
  <dc:subject/>
  <dc:title>Slide 1</dc:title>
</cp:coreProperties>
</file>